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2EB6-072C-4BA4-9909-B7225A54B79E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10D9-0741-4E40-A0AE-203C3721E24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CF15-4436-4DA9-B02C-CAE1BD9CEAB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33C5-34DD-4144-913B-8F5C6776FB2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2B93-BB2D-4D2F-BE1D-7601C9B7012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FC94-514D-4AD1-A060-BBFD2D640D6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C370-9A04-4717-AE46-B7AF405FB95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AB2-AB22-4039-9A57-6E7C211E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04E-B10D-4294-A144-B4B8B570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CEB-FBA1-44B5-BD7B-A0629246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0F3A-B3BA-4CCC-A45A-734E2794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E734-2263-477E-9C8E-C13A8B7A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7855-26E0-4D79-9C3D-E717964F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8632-22C9-4C5E-9D3E-F4FFC019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8D86-C1D9-44E9-AE8E-3659C882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B6EE-0FBC-4085-A6A9-D91F3831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05AE-3ECE-4D02-B8FC-37694A03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1808-8326-4506-BFE8-0D3C8BE2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96C6-720F-43B8-B96B-B52602B9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54E2-45A7-433F-975B-2C029A85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472C-AADF-4B4C-81E0-475D9AA2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92DC-D184-41C2-AE62-1A223531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4B70-F2BF-4281-9EE4-33070FCD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D48F-F828-4EA4-A250-99FF6749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29A-3EA1-483B-8931-30861F56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12A-C4A7-4589-B828-1F13CEAA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8DE-0508-4462-B6F2-B9687571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2DFA-C401-4536-8B8C-472D7772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15C1-08C7-4E1F-8542-9D513400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BF4B-D83C-4359-B450-700A1565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2F0-AF8B-43F2-9D35-F01F4061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E227-09AA-48D5-B7A0-86467960C3A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D2EB-86A2-4160-A06E-63420D8F95E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8. – 9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6:05Z</dcterms:modified>
  <cp:revision>349</cp:revision>
  <dc:subject/>
  <dc:title>Slide 1</dc:title>
</cp:coreProperties>
</file>